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h. 53 Warm-Up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37" name=""/>
          <p:cNvSpPr txBox="1"/>
          <p:nvPr/>
        </p:nvSpPr>
        <p:spPr>
          <a:xfrm>
            <a:off x="457200" y="1219320"/>
            <a:ext cx="4648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>
              <a:spcBef>
                <a:spcPts val="1500"/>
              </a:spcBef>
              <a:buClr>
                <a:srgbClr val="650011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Review) Sketch an exponential population growth curve and a logistic population growth curv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1500"/>
              </a:spcBef>
              <a:buClr>
                <a:srgbClr val="650011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an ecological footprin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1500"/>
              </a:spcBef>
              <a:buClr>
                <a:srgbClr val="650011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are ways that you can reduce your ecological footprin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1500"/>
              </a:spcBef>
              <a:buClr>
                <a:srgbClr val="650011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TextBox 3"/>
          <p:cNvSpPr/>
          <p:nvPr/>
        </p:nvSpPr>
        <p:spPr>
          <a:xfrm>
            <a:off x="5257800" y="1371600"/>
            <a:ext cx="350532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234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em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emel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tero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rrying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ponential growth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ogistic growth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-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-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cological foot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1500"/>
              </a:spcBef>
              <a:buClr>
                <a:srgbClr val="650011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of sexual mat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1500"/>
              </a:spcBef>
              <a:buClr>
                <a:srgbClr val="650011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often organism reprodu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1500"/>
              </a:spcBef>
              <a:buClr>
                <a:srgbClr val="650011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fspring during each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These traits are evolutionary outcom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cious decisions by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fe His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raits that affect an organism’s schedule of reproduction and survival</a:t>
            </a:r>
            <a:br>
              <a:rPr sz="3200"/>
            </a:br>
            <a:endParaRPr b="0" lang="en-US" sz="3200" spc="-1" strike="noStrike">
              <a:solidFill>
                <a:srgbClr val="ffc24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Times New Roman"/>
              </a:rPr>
              <a:t>Semelparity</a:t>
            </a:r>
            <a:endParaRPr b="0" lang="en-US" sz="40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520" y="1295280"/>
            <a:ext cx="4343400" cy="32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-bang re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Many offsp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d at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often dies afterw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stable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200400" y="5943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ave 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" descr="53_12Agave-L.jpg"/>
          <p:cNvPicPr/>
          <p:nvPr/>
        </p:nvPicPr>
        <p:blipFill>
          <a:blip r:embed="rId1"/>
          <a:stretch/>
        </p:blipFill>
        <p:spPr>
          <a:xfrm>
            <a:off x="4800600" y="533520"/>
            <a:ext cx="425448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Times New Roman"/>
              </a:rPr>
              <a:t>Iteroparity</a:t>
            </a:r>
            <a:endParaRPr b="0" lang="en-US" sz="40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472428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re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Few, but lar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table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248520" y="3809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http://www.priceanimal.com/r0300023.jpg"/>
          <p:cNvPicPr/>
          <p:nvPr/>
        </p:nvPicPr>
        <p:blipFill>
          <a:blip r:embed="rId1"/>
          <a:stretch/>
        </p:blipFill>
        <p:spPr>
          <a:xfrm>
            <a:off x="5334120" y="1295280"/>
            <a:ext cx="3276360" cy="2457720"/>
          </a:xfrm>
          <a:prstGeom prst="rect">
            <a:avLst/>
          </a:prstGeom>
          <a:ln w="0">
            <a:noFill/>
          </a:ln>
        </p:spPr>
      </p:pic>
      <p:sp>
        <p:nvSpPr>
          <p:cNvPr id="72" name="Title 3"/>
          <p:cNvSpPr/>
          <p:nvPr/>
        </p:nvSpPr>
        <p:spPr>
          <a:xfrm>
            <a:off x="533520" y="46483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itical fac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urvival rate of offspring and repeated reproduction when resources are 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686800" cy="38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/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= B-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opulation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75960" y="456840"/>
            <a:ext cx="87627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Change in Population Size</a:t>
            </a:r>
            <a:endParaRPr b="0" lang="en-US" sz="40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0"/>
          <p:cNvGrpSpPr/>
          <p:nvPr/>
        </p:nvGrpSpPr>
        <p:grpSpPr>
          <a:xfrm>
            <a:off x="457200" y="2057400"/>
            <a:ext cx="8153280" cy="1191240"/>
            <a:chOff x="457200" y="2057400"/>
            <a:chExt cx="8153280" cy="1191240"/>
          </a:xfrm>
        </p:grpSpPr>
        <p:sp>
          <p:nvSpPr>
            <p:cNvPr id="77" name="TextBox 5"/>
            <p:cNvSpPr/>
            <p:nvPr/>
          </p:nvSpPr>
          <p:spPr>
            <a:xfrm>
              <a:off x="457200" y="20574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2228b"/>
                  </a:solidFill>
                  <a:latin typeface="Arial"/>
                  <a:ea typeface="Arial"/>
                </a:rPr>
                <a:t>Change in population size during time inter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Box 6"/>
            <p:cNvSpPr/>
            <p:nvPr/>
          </p:nvSpPr>
          <p:spPr>
            <a:xfrm>
              <a:off x="3962160" y="220968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2228b"/>
                  </a:solidFill>
                  <a:latin typeface="Arial"/>
                  <a:ea typeface="Arial"/>
                </a:rPr>
                <a:t>Births during time inter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Box 7"/>
            <p:cNvSpPr/>
            <p:nvPr/>
          </p:nvSpPr>
          <p:spPr>
            <a:xfrm>
              <a:off x="6477120" y="220968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2228b"/>
                  </a:solidFill>
                  <a:latin typeface="Arial"/>
                  <a:ea typeface="Arial"/>
                </a:rPr>
                <a:t>Deaths during time inter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Box 8"/>
            <p:cNvSpPr/>
            <p:nvPr/>
          </p:nvSpPr>
          <p:spPr>
            <a:xfrm>
              <a:off x="3429000" y="22636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2228b"/>
                  </a:solidFill>
                  <a:latin typeface="Arial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Box 9"/>
            <p:cNvSpPr/>
            <p:nvPr/>
          </p:nvSpPr>
          <p:spPr>
            <a:xfrm>
              <a:off x="5943600" y="22096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2228b"/>
                  </a:solidFill>
                  <a:latin typeface="Arial"/>
                  <a:ea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920" y="304560"/>
            <a:ext cx="853416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65001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262699"/>
                </a:solidFill>
                <a:uFillTx/>
                <a:latin typeface="Times New Roman"/>
              </a:rPr>
              <a:t>Zero population growt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 = 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65001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262699"/>
                </a:solidFill>
                <a:uFillTx/>
                <a:latin typeface="Times New Roman"/>
              </a:rPr>
              <a:t>Exponential population growt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ideal conditions, population grows rapid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" descr="53_07ExponGrowthPredict-L.jpg"/>
          <p:cNvPicPr/>
          <p:nvPr/>
        </p:nvPicPr>
        <p:blipFill>
          <a:blip r:embed="rId1"/>
          <a:stretch/>
        </p:blipFill>
        <p:spPr>
          <a:xfrm>
            <a:off x="1676520" y="2158920"/>
            <a:ext cx="57909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53_08_ExponGrowthEleph-L.jpg"/>
          <p:cNvPicPr/>
          <p:nvPr/>
        </p:nvPicPr>
        <p:blipFill>
          <a:blip r:embed="rId1"/>
          <a:stretch/>
        </p:blipFill>
        <p:spPr>
          <a:xfrm>
            <a:off x="291960" y="507960"/>
            <a:ext cx="854712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0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65001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mited resources are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65001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99"/>
                </a:solidFill>
                <a:uFillTx/>
                <a:latin typeface="Times New Roman"/>
              </a:rPr>
              <a:t>Logistic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corporates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carrying capac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65001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maximum stable population which can be sustained by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-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-shaped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" descr="53_09LogisticGrowth-L.jpg"/>
          <p:cNvPicPr/>
          <p:nvPr/>
        </p:nvPicPr>
        <p:blipFill>
          <a:blip r:embed="rId1"/>
          <a:stretch/>
        </p:blipFill>
        <p:spPr>
          <a:xfrm>
            <a:off x="4038480" y="2514600"/>
            <a:ext cx="48769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boratory Populations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pic>
        <p:nvPicPr>
          <p:cNvPr id="88" name="Picture 1" descr="53_10_PopGrowthCurves-L.jpg"/>
          <p:cNvPicPr/>
          <p:nvPr/>
        </p:nvPicPr>
        <p:blipFill>
          <a:blip r:embed="rId1"/>
          <a:stretch/>
        </p:blipFill>
        <p:spPr>
          <a:xfrm>
            <a:off x="304920" y="1523880"/>
            <a:ext cx="85471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Factors that limit population growth: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30280"/>
            <a:ext cx="85345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2228b"/>
                </a:solidFill>
                <a:uFillTx/>
                <a:latin typeface="Times New Roman"/>
              </a:rPr>
              <a:t>Density-Dependent fac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opulation ma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Predation, disease, competition, territoriality, waste accumulation, physiological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2228b"/>
                </a:solidFill>
                <a:uFillTx/>
                <a:latin typeface="Times New Roman"/>
              </a:rPr>
              <a:t>Density-Independent fac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opul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Natural disasters: fire, flood,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28b"/>
                </a:solidFill>
                <a:latin typeface="Times New Roman"/>
              </a:rPr>
              <a:t>K-se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op. close to carrying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28b"/>
                </a:solidFill>
                <a:latin typeface="Times New Roman"/>
              </a:rPr>
              <a:t>r-se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aximize reproductive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1752480"/>
          <a:ext cx="8458200" cy="474192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-selec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-selec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 around 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onential grow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prenatal c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tle or no c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birth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birth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survival of yo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r survival of yo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sity-depen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sity indepen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. Hum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. cockroa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22160" y="52671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POPULATION ECOLOGY</a:t>
            </a:r>
            <a:endParaRPr b="0" lang="en-US" sz="40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22160" y="37666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2" descr="53_01SoaySheep-L.jpg"/>
          <p:cNvPicPr/>
          <p:nvPr/>
        </p:nvPicPr>
        <p:blipFill>
          <a:blip r:embed="rId1"/>
          <a:stretch/>
        </p:blipFill>
        <p:spPr>
          <a:xfrm>
            <a:off x="3032280" y="457200"/>
            <a:ext cx="5654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65001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ulations fluctuate due to biotic and abiotic fac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53_18MooseWolfPop-L.jpg"/>
          <p:cNvPicPr/>
          <p:nvPr/>
        </p:nvPicPr>
        <p:blipFill>
          <a:blip r:embed="rId1"/>
          <a:stretch/>
        </p:blipFill>
        <p:spPr>
          <a:xfrm>
            <a:off x="1143000" y="1371600"/>
            <a:ext cx="6781680" cy="4565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1523880" y="59515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5-1980: peak in wol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5: harsh winter weather (deep sn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15984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notice about the population cycles of the showshoe hare and lynx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53_19_HareLynxPopCycles-L.jpg"/>
          <p:cNvPicPr/>
          <p:nvPr/>
        </p:nvPicPr>
        <p:blipFill>
          <a:blip r:embed="rId1"/>
          <a:stretch/>
        </p:blipFill>
        <p:spPr>
          <a:xfrm>
            <a:off x="1600200" y="1006560"/>
            <a:ext cx="5867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Boom-and-bust cycles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666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ator-prey inte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. lynx and snowshoe hare on 10-year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53_19_HareLynxPopCycles-L.jpg"/>
          <p:cNvPicPr/>
          <p:nvPr/>
        </p:nvPicPr>
        <p:blipFill>
          <a:blip r:embed="rId1"/>
          <a:stretch/>
        </p:blipFill>
        <p:spPr>
          <a:xfrm>
            <a:off x="2057400" y="2362320"/>
            <a:ext cx="42670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Human Population Growth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52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configurations for a stable human population (zero population growt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>
              <a:spcBef>
                <a:spcPts val="1500"/>
              </a:spcBef>
              <a:buClr>
                <a:srgbClr val="339933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birth / high d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>
              <a:spcBef>
                <a:spcPts val="1500"/>
              </a:spcBef>
              <a:buClr>
                <a:srgbClr val="339933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birth / low d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2228b"/>
                </a:solidFill>
                <a:uFillTx/>
                <a:latin typeface="Times New Roman"/>
              </a:rPr>
              <a:t>Demographic tran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occurs when population goes from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Age-Structure Diagrams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pic>
        <p:nvPicPr>
          <p:cNvPr id="104" name="Picture 1" descr="53_24_AgeStructPyramids-L.jpg"/>
          <p:cNvPicPr/>
          <p:nvPr/>
        </p:nvPicPr>
        <p:blipFill>
          <a:blip r:embed="rId1"/>
          <a:stretch/>
        </p:blipFill>
        <p:spPr>
          <a:xfrm>
            <a:off x="304920" y="1219320"/>
            <a:ext cx="85471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Global Carrying Capacity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predicts: 7.8 to 10.8 billion people by the year 20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12 = 7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carrying capacity = 10-15 bill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2228b"/>
                </a:solidFill>
                <a:uFillTx/>
                <a:latin typeface="Times New Roman"/>
              </a:rPr>
              <a:t>Ecological footpr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otal land + water area needed for all the resources a person consumes in a p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 hectares (ha)/person is sustai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: 10 ha/pers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Limitations? Consequences? Solu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stefanosact.files.wordpress.com/2010/10/footprint-graphic.jpg"/>
          <p:cNvPicPr/>
          <p:nvPr/>
        </p:nvPicPr>
        <p:blipFill>
          <a:blip r:embed="rId1"/>
          <a:stretch/>
        </p:blipFill>
        <p:spPr>
          <a:xfrm>
            <a:off x="2209680" y="685800"/>
            <a:ext cx="464832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www.worldmapper.org/images/smallpng/322.png"/>
          <p:cNvPicPr/>
          <p:nvPr/>
        </p:nvPicPr>
        <p:blipFill>
          <a:blip r:embed="rId1"/>
          <a:stretch/>
        </p:blipFill>
        <p:spPr>
          <a:xfrm>
            <a:off x="457200" y="1676520"/>
            <a:ext cx="8283600" cy="4076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Map of ecological footprint of countries in the world (proportional sizes shown)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You Must Know: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65001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density, dispersion, and demographics can describe a popul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65001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ifferences between exponential and logistic models of population growt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65001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density-dependent and density-independent factors can control population growt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group of individuals of a </a:t>
            </a:r>
            <a:r>
              <a:rPr b="1" lang="en-US" sz="3200" spc="-1" strike="noStrike">
                <a:solidFill>
                  <a:srgbClr val="262699"/>
                </a:solidFill>
                <a:latin typeface="Times New Roman"/>
              </a:rPr>
              <a:t>single speci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ing in same general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# individuals /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Disper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attern of spacing between 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46" name="Line 5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Determining population size and density: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65001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nt every individu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65001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65001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rk-recapture meth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525780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6200" y="533520"/>
            <a:ext cx="46483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Patterns of Dispersal: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9520" y="1523880"/>
            <a:ext cx="5334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500"/>
              </a:spcBef>
              <a:buClr>
                <a:srgbClr val="650011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ump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most common; near required re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500"/>
              </a:spcBef>
              <a:buClr>
                <a:srgbClr val="650011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usually antagonistic inte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500"/>
              </a:spcBef>
              <a:buClr>
                <a:srgbClr val="650011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ot common i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53_04_DispersionPatterns-L.jpg"/>
          <p:cNvPicPr/>
          <p:nvPr/>
        </p:nvPicPr>
        <p:blipFill>
          <a:blip r:embed="rId1"/>
          <a:stretch/>
        </p:blipFill>
        <p:spPr>
          <a:xfrm>
            <a:off x="304920" y="152280"/>
            <a:ext cx="31208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32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s occur throug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ir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ubtractions occur throug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f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age-specific summary of the survival pattern of a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data with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rvivorship cur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8584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ot # of individuals in 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hor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alive at each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4582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2228b"/>
                </a:solidFill>
                <a:uFillTx/>
                <a:latin typeface="Arial"/>
                <a:ea typeface="Arial"/>
              </a:rPr>
              <a:t>Demography</a:t>
            </a:r>
            <a:r>
              <a:rPr b="1" lang="en-US" sz="2800" spc="-1" strike="noStrike">
                <a:solidFill>
                  <a:srgbClr val="22228b"/>
                </a:solidFill>
                <a:latin typeface="Arial"/>
                <a:ea typeface="Arial"/>
              </a:rPr>
              <a:t>: the study of vital statistics that affect population size</a:t>
            </a:r>
            <a:endParaRPr b="0" lang="en-US" sz="28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Life Table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pic>
        <p:nvPicPr>
          <p:cNvPr id="57" name="Picture 1" descr="53_T01_SquirrelLifeTable-L.jpg"/>
          <p:cNvPicPr/>
          <p:nvPr/>
        </p:nvPicPr>
        <p:blipFill>
          <a:blip r:embed="rId1"/>
          <a:stretch/>
        </p:blipFill>
        <p:spPr>
          <a:xfrm>
            <a:off x="76320" y="1219320"/>
            <a:ext cx="891540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28600" y="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urvivorship Curv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" descr="53_06SurvivorshipCurves-L.jpg"/>
          <p:cNvPicPr/>
          <p:nvPr/>
        </p:nvPicPr>
        <p:blipFill>
          <a:blip r:embed="rId1"/>
          <a:stretch/>
        </p:blipFill>
        <p:spPr>
          <a:xfrm>
            <a:off x="1143000" y="609480"/>
            <a:ext cx="6718320" cy="4678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304920" y="527364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 curve: low death rate early in life (huma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I curve: constant death rate over lifespan (squirr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II curve: high death rate early in life (oys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Chris Nancy Chou</cp:lastModifiedBy>
  <cp:lastPrinted>2001-01-06T03:20:03Z</cp:lastPrinted>
  <dcterms:modified xsi:type="dcterms:W3CDTF">2012-08-28T06:12:40Z</dcterms:modified>
  <cp:revision>272</cp:revision>
  <dc:subject/>
  <dc:title>Nerve activates contraction</dc:title>
</cp:coreProperties>
</file>